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24A-3CFE-4CA5-94AA-6DF569A1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A26-C44C-4D98-B639-202E661C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E23-F45F-4945-9874-3538CD92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95F-86DC-43F7-9840-349B2ABF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B69-FACD-4E7E-98A1-02455D3D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F7FA-CB33-463D-AD2C-493B4C64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6151-7249-4128-882C-340E1806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AF5E-6706-4443-8772-DFDE1666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EA84-515E-4F4C-A1E9-E47A5E89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7A8B-CCA2-45DD-93A6-4BC5C6A1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5208-D44B-4646-9027-A793D56F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D05-3586-4843-94D6-3869A165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DDB2-C571-4060-8EA1-1BDE36CE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5E50-623D-47D5-88B1-5327EBCF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CD18-D79F-4598-9E78-BAB46BB1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55A-0BB8-4215-82DB-EFC75A52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A319-47D3-4194-A459-DF0E4AE5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D3F-3A41-4E13-BFF3-4CF7CAEB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85A-707C-4528-9A5A-071964D3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7D2-97FA-48CB-81C5-73917DF6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A02-3FCA-4E25-B48F-1B39687A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405-8CEF-4E79-8294-B684DDD8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D84-AEC3-40BC-A5D1-5F2E1E4D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E15-066A-4E38-A690-7EAA21F2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91F88-BAAA-44AC-B178-6A7EC9D9C2A5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97924-5871-41C6-8F38-0F31AC36C98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AD48F-1238-41A6-B779-E43DC8995434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49DCC-4372-43CB-840D-DCC32F57D651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Be Safe On The Interne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For Stud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By Richard LaBrecqu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86680" y="32497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873320" y="641844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Piccomputers/idaschool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Cyberbull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n’t Be Mea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Ignor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mean or threatening messag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Block-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send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ell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a trusted adult who can help you report them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302080" y="4043520"/>
            <a:ext cx="3289320" cy="2476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5439240" y="65199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Stormyscorn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Online Preda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ecogniz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the difference between cute and creep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epor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anyone who asks to meet you in person to the police and www.cybertipline.com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746680" y="4200480"/>
            <a:ext cx="2844720" cy="2657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46960" y="6535800"/>
            <a:ext cx="58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istock/_monkeybusinessimages/eduguid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Sharing Too Much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void TMI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Don’t post anything too personal or embarrass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rotect your Spac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Use privacy settings, and don’t accept just anyone as a frie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n’t be that kid who gets suspended for posting something stupid onlin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5351400" y="4351320"/>
            <a:ext cx="3492720" cy="2324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958320" y="631332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ds-on-computer/smartschool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News Gothic MT"/>
              </a:rPr>
              <a:t>Trusted Adul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News Gothic MT"/>
              </a:rPr>
              <a:t>Tell your parent or guardian what you’re doing online.</a:t>
            </a:r>
            <a:endParaRPr b="0" lang="en-US" sz="4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1" name="Picture 3" descr="images.jpeg"/>
          <p:cNvPicPr/>
          <p:nvPr/>
        </p:nvPicPr>
        <p:blipFill>
          <a:blip r:embed="rId2"/>
          <a:stretch/>
        </p:blipFill>
        <p:spPr>
          <a:xfrm>
            <a:off x="4538520" y="309096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041000" y="62946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fesof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sourc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tional Center for Missing and Exploited Children. (2011) Tip sheet for Internet safety. U.S. Department of Justice, Washington, D.C.: Author. Retrieved April 12, 2012, from http://www.netsmartz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23:26:07Z</dcterms:created>
  <dc:creator>Richard LaBrecque</dc:creator>
  <dc:description/>
  <dc:language>en-US</dc:language>
  <cp:lastModifiedBy>Richard LaBrecque</cp:lastModifiedBy>
  <dcterms:modified xsi:type="dcterms:W3CDTF">2012-04-13T00:03:56Z</dcterms:modified>
  <cp:revision>10</cp:revision>
  <dc:subject/>
  <dc:title>Internet Safety Information</dc:title>
</cp:coreProperties>
</file>